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8EB-9F9C-4EF3-AF05-25FF7E82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B91-DB18-497F-AEF9-AA2E647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F8C-C55C-438A-9E0D-99DB19D1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7FE-B31A-4C93-B823-C87A9719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6480-C7C0-4757-90D3-809F741D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F798-3AB9-4FE5-A6EF-73302618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0BB5-DF62-469B-91AE-9167E88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B424-89FE-42BB-B68F-A5D73408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EC28-1877-4F0E-A91C-9AAE1B04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1CA-079A-44DC-A2BC-94EAA07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13EA-4EA7-486D-BFD4-01C8484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C01-49D0-4995-B1AE-EA86150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680E-BF02-437F-8C59-C281B76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6C59-2DE8-443F-897B-3ECA0C8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76EA-B201-4171-B6CB-795AD767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E92-FECF-42B6-BEFB-0272F68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464B-7B15-4E83-9B0B-ADEE3A5F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F75-5A3F-4E00-A81B-AA438D49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4B5-B92A-4802-8477-CC26EDC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551-94E5-467B-92FA-5914E487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65F-F585-4033-9FAF-6C7D6EF6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404-8380-410F-9492-6335650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574-04FB-4D64-8A3D-F6309B4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D10-A32F-4556-9D8E-2E1DD7A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DF34-8E55-4658-8583-C29995C4CC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F5D-4005-4C13-AC7B-D764B74238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Go Tell The Good News”</a:t>
            </a:r>
            <a:br>
              <a:rPr sz="60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art 1</a:t>
            </a:r>
            <a:br>
              <a:rPr sz="44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Church Is Scattere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11, Less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 56-6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lief To Judea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s 11:27-30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disciples in Antioch were composed of Jews and Gent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generosity was perhaps greater than those saints on the day of Pente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w and Gentile worked together to help needy Jewish brethren in Jud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were other churches in Judea besides the church in Jerusalem (Gal.1:2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lief To Judea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27-30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and Saul took the gift to the elders where there was a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is no indication that the church in Jerusalem acted in any sort of supervisory capacity in this ma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ter Defends God’s Grace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s 11:1-18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ostles and brethren in Judea heard about the Gentiles receiving the word of G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Jews in Jerusalem contended with Peter saying, “You went in to uncircumcised men and ate with them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told them of the vision that he received while pra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explained to them in detail the events that occurred in Acts 1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eter Defends God’s Grace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-18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said the Gentiles had the same gift that he and the apostles had when they believed in Ch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said, “Who was I that I could withstand God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the Jews heard this they became silent and they glorified God, saying, “Then God has also granted to the Gentiles repentance to lif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Jewish Christians scattered from persecution after the death of Stephen (Acts 8:1-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traveled as far 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hoeni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ypr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aching only to the Jews at fir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1295280" y="-258840"/>
            <a:ext cx="10439280" cy="71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fter some time men from Cyprus and Cyrene began to preach to the Gentiles in Antioch of Sy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 a result of the preaching, a great number of people believed and turned to the L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urch at Jerusalem heard of their success and sent Barnabas to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ses was named Barnabas (son of encouragement) by the apostles in Acts 4: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saw the grace of God and was gl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 encouraged them to continue with the L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was a good man, full of the Holy  Spirit and of fa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great many people were added to the L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departed for Tarsus to seek Sau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brought Saul to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continued there for a whole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sembled with the church and taught a great many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iples were called Christians first at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rst congregation composed of Jews and Gent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word Christian means one who pertains to Christ or belongs to Chri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lief To Judea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27-30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prophet from Jerusalem named Agabus came from Jerusalem to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gabus prophesied that a severe famine would occur during the reign of Claudius (A.D. 41-5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iples in Antioch individually decided to send relief to the brethren in Jud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us and Saul delivered their gift to the elders in Jud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1:43:29Z</dcterms:created>
  <dc:creator>robert marshall</dc:creator>
  <dc:description/>
  <dc:language>en-US</dc:language>
  <cp:lastModifiedBy>robert marshall</cp:lastModifiedBy>
  <dcterms:modified xsi:type="dcterms:W3CDTF">2006-11-13T04:51:52Z</dcterms:modified>
  <cp:revision>8</cp:revision>
  <dc:subject/>
  <dc:title>“Go Tell The Good News” Part 1 The Church Is Scatter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73440872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11L10.ppt-revised 11/11</vt:lpwstr>
  </property>
</Properties>
</file>